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A34-9572-4890-95C4-EBF33FC0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FE5-5571-4A9B-8AE4-578F00D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311-C9B2-4882-B8AC-50D23482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D82-4687-470E-98FF-48961B1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38A-1540-4394-812B-C2E5C10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438-72F4-4CE2-B6DF-85A28E3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2B9-0754-483C-9B9F-929CED29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AC3-9589-466A-997D-B0420C08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04A-6CB6-4C7F-8BD4-8CD0522F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0E6-0F8E-4E8A-91AF-263B36F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F4C-0D84-4CB7-BAF5-FBA11ACE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56F-1908-4052-9ECE-BEF064D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3C6B-5AA5-4AD6-9B41-35D801BB4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ws &amp; Legal 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Unknown Category"/>
          <p:cNvPicPr/>
          <p:nvPr/>
        </p:nvPicPr>
        <p:blipFill>
          <a:blip r:embed="rId1"/>
          <a:stretch/>
        </p:blipFill>
        <p:spPr>
          <a:xfrm>
            <a:off x="457200" y="3809880"/>
            <a:ext cx="37767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Laws enacted by government bodies (elected) at state and federal leve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nce – local lev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La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reated by Judicial branch. Usually created after a trial ends and one side appeals to a higher co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e decisis”- Latin – “let the decision sta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rine requires that lower courts must follow case law in deciding similar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ministrative La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ecutive Bra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Agencies: governmental bodies formed to carry out particular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curity Adm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Vehicle Depar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y Zoning Commiss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 Main Typ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2209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vi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 - Civi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k legal remedy for wrongs done to them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Wrongs – Civil Offen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ant fails to pay land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injury by some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 – Crimina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e – offense against society rather than an individual pers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ng in the name of the people, the government investigates an alleged wrongdo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icted of Crime – fine, imprisonment,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hoplifting, kidnapping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 – Procedura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forth how rights and responsibilities can be legally exercised  and enforced through the leg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&amp; Proc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 – Substantive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rights and du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of con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offenses, such as murder, theft, breach of contract and negli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ghts &amp;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 – Busines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rules that apply to business situations and transac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related torts and c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&amp; Conspi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form Commercial Code (UC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widely adopted uniform business law which governs areas such as sale &amp; leases of goods and certain aspects of b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3 Ethical Bases fo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/Contrast consequences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 and rule-based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ethics are reflected in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ical Bases for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 – a practic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ci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is right or wrong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so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ar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ed – not e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rtial – applies to every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thical decision is one that is reasoned out typically by referring to an established authority (law) that provides consistenc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1 Laws &amp; Leg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stages in the growth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differences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nd positive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origin of the U.S. leg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 vs. Rule Ba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-based ethical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for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s the consequences for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consequences for the greatest g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-based ethical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ethical rules which judge right or wrong. Recognized authority or human reaso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king the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fflaws – individuals who do not obey even minor laws.  Do not apply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personal integrity or capacity to d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Disobedience – open, peaceful, violation of the law to protest its alleged injus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make legal system mor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violent, public, willing to accept punishme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stitutional Righ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Unknown Category"/>
          <p:cNvPicPr/>
          <p:nvPr/>
        </p:nvPicPr>
        <p:blipFill>
          <a:blip r:embed="rId1"/>
          <a:stretch/>
        </p:blipFill>
        <p:spPr>
          <a:xfrm>
            <a:off x="457200" y="3429000"/>
            <a:ext cx="4311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1  Foundatio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.S. Con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documents written in the course of the nation’s found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how the U.S. Constitution addresses and protects citizens’ civil r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claration of Independenc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ed by representatives of the 13 original colonies that asserts the rights desired by the colonis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776 in Philadelphia - Formally adop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ed by Thomas Jefferson in less than a mon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en are created equal, that they are endowed by their Creator with certain unalienable rights, that among these are life, liberty, and the pursuit of happiness.”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Appendix B - Page 630 - Full T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ticles of Confederation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781 the 13 independent governments (colonies)  united in an agreement for a common government. (prior to the creation of the Constitution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a stronger central government than Articl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ments regarding Articles ultimately led to the calling for a special convention of the 13 delegat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.S. Constitution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that consists of 7 articles that provi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able framework for our federal gover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fication took a while, critics felt wording failed to provide adequate protection of the Human Rights proclaimed in Declaration.</a:t>
            </a:r>
            <a:br>
              <a:rPr sz="28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4, 1789 - Official start d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 resolved by the adoption of Bill of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70520" indent="-47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.S. Constitution – Order of Ratifica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laware - December 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ennsylvania - December 1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Jersey - December 1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eorgia - January 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necticut - January 9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ssachusetts - February 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ryland - April 2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outh Carolina - May 2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Hampshire - June 2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                   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(Only 9 of 13 neede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irginia - June 2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York - July 2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        </a:t>
            </a:r>
            <a:r>
              <a:rPr b="1" lang="en-US" sz="2100" spc="-1" strike="noStrike" u="sng">
                <a:solidFill>
                  <a:srgbClr val="008000"/>
                </a:solidFill>
                <a:uFillTx/>
                <a:latin typeface="Times New Roman"/>
              </a:rPr>
              <a:t>March 4, 1789 - Official start d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rth Carolina - November 2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17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hode Island - May 29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179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(Critics of wordin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ll of Righ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10 Amendments of the U.S. Constitu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to ensure U.S. Citizens would enjoy the human rights proclaimed in the Declara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English documents that contributed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Bill of Righ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a C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ition of Right of 16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ll of Rights (Engl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ll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dom of Speech, Freedom of P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dom of Religion, Freedom to Assemble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Keep and Bear Ar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2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ing Soldiers – need owners consent</a:t>
            </a:r>
            <a:br>
              <a:rPr sz="32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and Seizures – protection against unreasonable search and seiz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enforceable rules of conduct in a society that reflect the culture and circumstances that cre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books,cases,gavels,government,judicial systems,laws"/>
          <p:cNvPicPr/>
          <p:nvPr/>
        </p:nvPicPr>
        <p:blipFill>
          <a:blip r:embed="rId1"/>
          <a:stretch/>
        </p:blipFill>
        <p:spPr>
          <a:xfrm>
            <a:off x="6324480" y="4114800"/>
            <a:ext cx="25624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and Punishment – due process, double jeopardy, self-incri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a Speedy Trial and Counc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by Jury in Civil C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el and Unusual Punishment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prohibits excessive bail and 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on of Constitution – protection of rights not specifically detailed in B.O.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s of the States and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ersonal, natural rights of the individual guaranteed by con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ital of these rights are covered by the First Amendmen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rs recognized deep-seeded religious impulse but wisely imposed a role of neutrality for th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Church an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Process of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minimum , a defendant over whom a jurisdiction has been established must be provided adequate notice and a proper hea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undamental fairness in compliance with reasonable and just law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lition of Slaver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allowed by Constitu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umanized by Article I which counted them as only 3/5 of a person when assigning representativ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 IV – stated if they escaped they must be returned to the appropriate par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Civil Wa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ither slavery nor involuntary servitude, except as a punishment for a crime whereof the party shall have been duly convicted, shall exist within the U.S., or any place subject to their jurisdiction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ght to Vo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The right of citizens of the U.S. to vote shall not be denied by the U.S. on the account of race, color or previous condition of servitud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created “poll taxes” to try to prevent voting. Many former slaves could not afford the ta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hall not be denied… by reason of failure to pay any poll tax or other taxes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“shall not be denied… by gend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oting age lower to 18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9810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 (Secondary)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ights that are not explicitly mentioned in the U.S. Constitution or Bill of Rights but courts recognize them as necessary to protect the rights that are mention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of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of parents to control the heal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lfare of their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2  Division and Balance of Government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system of checks and balances in the U.S.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how the power to govern is divided between the federal and stat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10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a balance of power between the 3 governmental branches by having the powers given to one branch check the powers given to an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e – Congress (make the la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ate – with two members from every state (regardless of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 of Representative - seats allocated to the states in proportion on their popul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– Presid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– Supreme Cou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the Con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ndment – change or al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y 2/3 majority votes in both Senate and House of Representa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valid part of constitution only if it is ratified by the legislatures of ¾ of the st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Growth in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are free to take revenge for wrongs done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eader acquires enough power to be able to force revenge-minded individuals to accept an award of goods or $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give this power to cour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ct to prevent and punish wrongs that provoke individuals to seek reve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.S. Form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cy – governmental system in which citizens vote directly to decide issu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blic - governmental system in which citizens elect representatives to decide issu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resentative Democ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to Go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ereignty –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endment) supreme political authority free from external contro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tate Commerce – affects trade between sta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deral reg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state Commerce – trade within its own bord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nternet &amp; Constitutional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2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ssues of jurisdiction that arise with Internet us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constitutional issues involved in the use of electronic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that is intended to govern the use of computers in e-commerce and th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risdiction,   Trademarks,   Copyrigh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s,   Privacy,   Obscenit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mation,   Security of Data,  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rth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’s – Advanced Research Project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together computers on various academic campuses and research centers around the country in a network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PA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’s – National Science Foundation (NS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dvanced network –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ed Internet for business purpo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under contract - not to use for bus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over functions of defense network and created the moder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 – After 20 years of scientific and academic use, the Internet was opened up to new users through creation of hypertex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pertex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onlinear format for the publishing of information used to send emails, transfer data, and converse in chat roo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rners-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ed WWW Program to simplify the Internet to allow almost universal access to anyone with the use of a computer.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vision was to open access to as wide a body of information to users through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ow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ternet scanning program that utilize the attributes of hypertext to allow immediate access to any and all subjects and the background information necessary to comprehend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rners-Le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hypertext markup language (HTM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ypertext transfer protocol (HTTP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ML:  dictates the format of standard Web documents.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TP:  provides the standard for exchanging files in HTML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 of 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in state where suit filed?   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where e-business is physically loc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Info?    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busin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36 – 38 What’s Your Verdic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volving Legal Issues in Cyberspa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issue of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of jurisdiction is whether a case is decided in the state in which it is fil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legal consid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Arm Statutes: laws in the states which will allow suits against non-resident defend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Violations of due process requirements of U.S. Constitution in state or federal court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vs. Positive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ased on the current standard or customs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formed from rules judges use to settle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ve 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ased on the dictates of a central political authority (higher authorit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own by a sovereign to prevent disputes and wrongs from occurring in the first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volving Legal Issues in Cyberspa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Juris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 E-Commerce Princi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ry may exercise jurisdiction only over activities with a substantial effect on or in that count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uncertainty involved in the jurisdiction issue can be removed i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business puts a notice on its website and clarifies sections of their contra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ate that any and all legal issues shall be resolved in a particula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scream “fire” in crowded building, publish malicious lies in news print, can not publish obscene materials onli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ger King Corporation v. Rudzew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determined that a defendant company of one state has created a “substantial connection” through “minimum contacts” purposely directed toward a foreign state become subject to the laws of that othe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h v.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stripped away the protections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s from obscene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er v.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rt test to determine whether or not material can be considered obscene and regulated or banned by local, state or feder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Decency Act (C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urpose of CDA was to control the knowing transmittal of obscene material through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violators: Fines and imprisonment for up to 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d immediate legal attacks - declared unconstitu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Online Protection Act (CO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commercial sites to use up-to-date methodology to restrict access to their sites containing material harmful t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: face fines of $50,000 per incident and website operators face jail terms up to 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emails sent on company’s email system not protected by the right of priva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Privacy remain unsol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mming – the practice of sending un-requested bulk emailings to hundreds of thousands of potential customers via the Int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okie is a packet of information containing the Internet address and other personal information about a website visitor such as buying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aw exists in the U.S. that covers the gathering of user information while they are on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tes of Importance to Cyber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nham Act of 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or the registration &amp; protection of trademarks &amp; copyrigh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demark Dilution Act of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s to protect the holders of famous trademarks from the effects of domain-page registrations that tend to confuse and dilute the trademarks good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ter Fraud and Abu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ften-amended act that pioneered the treatment of computer-related crimes as unique offenses in the United States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lecommunications Act of 19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k.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ild Online Protection Act of 19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PA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audulent Online Identity Sanctions Act of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otential prison sentences by up to 7 years for someone who provided “material and misleading false contact information to a domain name registrar, domain name registry, or other domain name registration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Unknown Category"/>
          <p:cNvPicPr/>
          <p:nvPr/>
        </p:nvPicPr>
        <p:blipFill>
          <a:blip r:embed="rId1"/>
          <a:stretch/>
        </p:blipFill>
        <p:spPr>
          <a:xfrm>
            <a:off x="304920" y="3809880"/>
            <a:ext cx="3882960" cy="2762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urt System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s of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 how disputes can be settled without going to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different levels of courts and describe their jurisdictions and p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cost-effective way to resolve disputes: </a:t>
            </a:r>
            <a:br>
              <a:rPr sz="4400"/>
            </a:b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gotiation between parti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ig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to allow the court to resolve their dispu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es to develop a solution acceptable to both sides of dispu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party negotiat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s are advisory </a:t>
            </a:r>
            <a:br>
              <a:rPr sz="44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(not legally binding to the partie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lish Common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ound 1150, King Henry II appointed some of his trusted nobles to act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D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 recognized importance of keeping to the customs of the people.  Instruct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D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choose citizens to help interpret situations -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ing’s Cour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ways had jurisdiction on ca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the power to decide a c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government,kings,males,men,monarchs,people,persons,royal highnesses,royalties,rulers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bitr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ually holds an informal hearing to determine what happen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ly binding to both par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can be enforced by the court if necess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r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governmental forum that administers justice under the la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rds damag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ses punish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l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first court to hear a dispu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its original jurisdiction over a case to determine facts and then applies law to them to determine an outcome/de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di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jury's decision in a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officers of th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citizens sworn in by court to decide issues of fact in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inal Jurisdi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ower to hear case in full for the first t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reviews decisions of lower courts to determine if a significant error of law was made during tr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s and may correct the choice or application of law made by the trial cou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re not present at Trail cour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not make determin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erned solely with errors made in the la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 Revie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crip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batim record of what went on at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Brief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argument on the issues of law submitted by opposing attorn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firm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Uph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Over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send back to trial court for corrective actions or possibly a new tr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eckpoi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two levels of courts, and what is the function of eac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source of power of the feder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major federal court and describe their jurisdictions and p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2 Typ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four source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conflict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/Contrast criminal, civil, substantive, procedural and business la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II - Section 1 -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.S.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judicial Power of the U.S. shall be vested in one Supreme Court, and in such inferior Courts as the Congress may from time to time ordain and establi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3 levels of federal courts with General Jurisdi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l jurisdi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t that can hear almost any kind of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al jurisdi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t that hears only one specific type of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 District Cour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serves as a trial cou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rts of Appe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Appellate jurisdiction over the Federal District Cour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.S.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Original &amp; Appel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risdictio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Highest Feder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ppellat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Supreme Court believes a case contains a sufficient constitutional issue, they issu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 of certiorari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that compels a lower court to produce the record of a case for the Supreme Court to review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ource of power of the Federal cou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three levels of federal courts and descri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urisdiction of ea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 Cou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e the structure of a typical state court system with the structure of the federal court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 the jurisdictions of the specialized courts in a typical stat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tate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mbles Federal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llat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 Chart on Page 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Trial court with general original jurisdiction of both civil and criminal matt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ior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ts of Common Ple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rt of Record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te, detailed report of what went on at the tri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uracy vital if case appea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cripts,   Evidence, Statements,   Determinations, &amp; Judg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it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document sets forth the framework of a government and its relationship to the people it gover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nstitution &amp; State Constit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source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The supreme law of the lan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ized Jurisdiction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) Associate Circuit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t that hears minor criminal cases, state traffic offenses, and lawsuits involving amounts of no more than $25,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.k.a. County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nicipal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y court, usually divided into traffic and criminal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) Small Claims Courts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courts that handle disputes in which small amounts, generally $2,500 or less, are invol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) Juvenile Courts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ts where the juvenile is entitled to his or her constitutional rights, including the right to be represented by an atto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uveniles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viduals over 13 and under 18 years of age who have special status under crimin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) Probate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ers wills and est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33520" y="2438280"/>
            <a:ext cx="213336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00400" y="24382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veni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867280" y="24382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nicip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990720" y="4038480"/>
            <a:ext cx="213336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657600" y="40384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i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6324480" y="40384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533520" y="571500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e’s Court  / County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a typical state court system have in common with the federal court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ame the typical state courts that have specialized jurisdiction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stitution Continued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power betwee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&amp;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of Rights – protect people from action of their go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&amp; stat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tate Commer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deral – between 2+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state Commer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 – within one st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 &amp; Balances of Executive, Legislative, &amp; Jud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undlin</cp:lastModifiedBy>
  <dcterms:modified xsi:type="dcterms:W3CDTF">2013-09-09T18:52:50Z</dcterms:modified>
  <cp:revision>33</cp:revision>
  <dc:subject/>
  <dc:title>PowerPoint Presentation</dc:title>
</cp:coreProperties>
</file>